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3596-5BAC-4045-926B-57899D73B0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6641-C48D-4695-AD05-49A78D7BEA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E97F-92BD-475B-92D8-D006463B46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1F1E-71CD-4DDD-8A26-85241657BD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792F-1708-4751-B654-C5DACC3C98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7956-2D51-4BCB-AEAD-7352DBF453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D39E-D157-49B6-91DF-83B442E820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66CB-7B81-4C2B-B15D-5F381994C0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67CB-F7AC-4531-99FC-52748464B7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4100-489E-4545-A54C-62DBC7D071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80E-EF45-4CBF-8349-4256837087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FF66-132C-4055-8BAE-9E3AB79812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193B-D421-4644-A752-797C4C2D4F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5F1C-1710-4193-9F4A-ECB17CBA45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E5FB-C710-4B8A-BFAA-FE6B14DC9F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30C-A666-4B14-8CE3-70FC9D74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74C-E40E-42B8-AC71-1278B383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72B-B83C-4B40-95A5-A570CDB3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73E-63B5-4FD9-A30F-19683F23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E202-2E3C-4E7B-B8EA-B45C32B3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0D77-A938-4298-8222-E4A90B9B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C4AC-24BE-46B8-8BBF-2F3B4867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F8DB-FEF1-48A9-AF6F-D9F0D6ED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6484-7457-4C58-852F-D4F2D995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F8EB-D093-4E44-AAF6-83A424B8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8CD1-4E55-455A-B486-D731994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E24-2833-490B-8FFB-A11CCD78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46AD-D97B-47CA-AAFE-BB5C3420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FA80-3CD0-4016-844D-31E0CF03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7222-BDAC-49AA-B77A-D53F8D37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1AF4-3C98-4019-918B-E99E4D66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CE79-21B9-4D22-87CF-90D8946D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3C0-FC86-48A0-AD0B-DFBAFE11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18F-D49A-4FD1-8528-0429297D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A6C-9465-409C-BC7E-30374641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20A-76CC-40E5-A549-7E473633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D0C-1173-4C8E-B7E9-DF4CBDE5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578-5328-4A10-8376-BD1437A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28F-FB4B-4B99-B0EC-53E51CB5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2B82-F2C7-46B3-AFA1-537BCA4CDC9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6E00-12EA-4AC0-B519-FDBC481E04C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itical Perspectives in th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Introduction to A2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Section B: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edia and Collective Ident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the contemporary media represen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ack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ople in different w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contemporary representation compare to previous time peri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social implications of different media representations of this group of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what extent is human identity increasingly ‘mediated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Section B: Two Media focu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resentations of black people with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Films: In the UK and 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abylon (1980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ying Away (1986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KiDulthood(2006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Freestyle (2009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usic Videos: Hip-Hop, Rap &amp; Grime in the UK and 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What is meant by representatio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0200" y="1267920"/>
            <a:ext cx="846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In the media representations are often thought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s ‘re-presentations’ of a particular social gro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They are seen by some media theorists  as ‘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nstructions’, presented to us by the media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the trut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uring A2 Media we will hope to gain a dee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derstanding of representational issues and th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‘fluid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of representation’.</a:t>
            </a: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What is collective identit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concept of a collective identity refers to a set of individuals' sense of belonging to the group or collectiv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 the individual, the identity derived from the collective shapes a part of his or her personal identit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llective Identity is the idea that through participating in social activities, individuals can gain a sense of belonging and in essence an "identity" that transcends the individua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Relate to </a:t>
            </a:r>
            <a:r>
              <a:rPr b="0" i="1" lang="en-GB" sz="3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lif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ifferent groups or collectives do you belong to? This can relate to something social, ethnicity, country, religious group, gender, age group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feel, being a part of this group/collecti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feel when with this group/coll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this group/collective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What do you associate with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781360"/>
            <a:ext cx="4751640" cy="3095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0" y="3041640"/>
            <a:ext cx="3456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Black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does the media associate with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2781360"/>
            <a:ext cx="4751640" cy="3095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3041640"/>
            <a:ext cx="3456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Black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ve you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r personal views differ from the media vi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media’s view is based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se Study Fil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bylon (19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ying Away (19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Dulthood(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style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ocial/political events at the time may affect the representations within these fil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have we learn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ections is the exam broken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itle of section 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ways in which the media view black cul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film we are studying thi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represe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llective ident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in understanding of course structure and requirements for thi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concepts in section B of the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 to the case studies for this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me 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4 different roles that you feel black people within the media fit i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ay use images to support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y you believe these depictions have formed and where they have come fr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Ex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lit into two 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tion/Part A: Focuses on your cours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tion/Part B: Media and Collectiv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a)The first requires you to describe and evaluate your skills and development over the course of your production work, fro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undation Portfolio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ced Portfol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b)The second asks you to identif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ion and evaluate it in relation to one theoretical concep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Exam Question (Section A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1 a) The question will relate to one or two of the following practices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igital Technolog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vit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search and plann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ost-produc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Using conventions from real media tex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Exam Question (Section A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) Requires you to selec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duction and evaluate it in relation to a media concept. The list of concepts to which questions will relate is as follow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rr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res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d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 Language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ays in which media products are constructed constitute methods of communication that we all recognise and readily decipher. This links to both verbal, visual and aural c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examination, questions will be set us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se concepts on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Section A 1(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oose from AS or A2, main task or ancillary/preliminary tas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You will select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production that relates most to the conce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none of your productions relate to the task you must explain how and why they do not fit into that conce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revision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it would be a good idea to consider how you would relate each of your productions to the different concepts to work out how to answer the ques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Section B: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edia and Collective Ident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will be a choice of two questions for your area. You will choos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question to answer using the case studies studied throughout the year and applying the different theoretical views that apply to the case study and th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6:19:49Z</dcterms:created>
  <dc:creator>Martina</dc:creator>
  <dc:description/>
  <dc:language>en-US</dc:language>
  <cp:lastModifiedBy>martinaos</cp:lastModifiedBy>
  <dcterms:modified xsi:type="dcterms:W3CDTF">2010-09-10T07:01:35Z</dcterms:modified>
  <cp:revision>23</cp:revision>
  <dc:subject/>
  <dc:title>Critical Perspectives in the Media</dc:title>
</cp:coreProperties>
</file>